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DEB3-813F-4A5F-ADE4-86DA7AB8E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1928-6810-47A6-97A7-F54D40279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A67D-DD72-4682-991B-FFAF230D9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FDC5-E102-402F-9637-26F171D14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CD28-CD35-4623-B146-5AF9B2BC8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2D68-AB51-4CC6-84D9-375CEABB0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86C4-926C-4645-B3FE-CB531E2ED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C018-1076-4723-AFD8-0888CCDCE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0D49-E0C6-496F-9599-12DF66B8D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CDE3-A38F-4490-86A6-A50E82DB4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31B0-F11C-420A-BC68-9EB7752DA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E2C9-3246-41FB-8EED-5F0357C3E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FA4-61B2-454F-AB68-D3EE72BB24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FFC2-9215-488E-B5DE-BA9E96D44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CB85-7208-4F90-A738-657B45373A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42A-9AB4-481D-A3C3-A153598277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E2D-D375-410F-B1F0-2B59907F23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944-8214-4B26-8B71-91F30CF11C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DA87-9E50-4E6D-A31C-1BD94EDDD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E9B4-7E57-4644-81DC-7941063BC2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7E36-6158-4A58-A5A0-C05E9A9E4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A94-52D3-48E9-85ED-3D4CBA20D1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2D25-43F0-449E-B596-6069EDBFB4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F80-F808-4719-B7F6-B8455AE471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0D1-4296-4B7B-BD78-60566B6F38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F8B-A91D-49D9-8CB1-6C19139354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DBD4-F1DA-4ACA-9767-8EDF59A94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16C0-806C-4A05-B9F6-8B567F81AB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6BA-9D8B-4FCC-8B3D-7A9DB6AEB3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3A2-C58A-490A-9C4E-C310FCD7A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F93-6182-4C94-B401-FDFD821426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0067-5D72-4BAE-BCB7-011D68F331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ECE6-75C7-41E1-92C9-9AD0772096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BE1-3670-4036-981C-EF1235D709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83B-F2F8-40D7-A9C9-FC7183C1F3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872A-89F0-4A7B-B7DB-1B7943961E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5676-3BE4-4781-9FB4-E04FF83FE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C7DD-6B83-4AA6-97B6-C050CDFBCE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E2F-3EED-47E6-B856-7EC7DADAFD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6:53:22Z</dcterms:modified>
  <cp:revision>50</cp:revision>
  <dc:subject/>
  <dc:title>&lt;Title&gt;</dc:title>
</cp:coreProperties>
</file>